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95E-E5DF-4E86-B190-69F4AAF2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AED-8B23-403A-BD39-A46789A3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CB4-2963-4A5F-A355-17383712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C1E-8F94-4491-8E41-D26F4D0E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684A-6F23-4DEA-BD33-B37B34DF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A90B-978D-4AE4-87A0-14EFFEE8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0631-62FA-4963-9239-8A4EA544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EA44-57A3-41BB-B950-77B27325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2A65-9697-4BDD-BE62-46D875E1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12F-4347-4001-8DEA-D26F3FF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15E6-5442-491F-AE26-D2CCC92B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725-3D0F-4F67-BFE0-DE6F5BCB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FBF3-02B9-491E-AEA6-0100B4FC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81BA-BD62-48CA-A0D6-BABFED39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8877-09E7-4F3C-8A37-A0F18B3B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BFB8-B9CB-4342-AD45-381B865C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E16F-68D8-49AB-8B2E-4C5C2000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664-D6A7-40CE-B3A9-DBFC9969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1C7-1694-418C-97AC-ADF21CA6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954-EC8B-4049-9931-7764B4F4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F43-6D21-40D1-AE9B-170843D6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DDF-CC93-4875-9D89-FF4D97CE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005-477E-42CB-AA67-0A8E74D9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D7D-8E35-441E-83A8-4D5C1CC5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33AD-2370-406B-B0AD-DE5FC70E84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73A0-C2B1-4B15-8443-340F8ACFBB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55840" y="281160"/>
            <a:ext cx="419580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morilla burlad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o m’era mora Morai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lla de un bel ca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ristiano vino  a mi puert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itada, por m’engañ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óme en algarab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o aquél que la bien sab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Abrasme las puertas, mo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Alá te guarde de 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¿Cómo t’abriré, mezquin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no sé quién te será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soy el moro Mazo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ermano de la tu mad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un cristiano dejó muer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ras de mí venía el alcal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no me abres tú, mi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70800" y="690480"/>
            <a:ext cx="286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í me verás matar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ando esto oí, cuitad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encéme a levant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istiérame una almej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hallando mi br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érame para la puer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bríla de par en pa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0:35:07Z</dcterms:created>
  <dc:creator> </dc:creator>
  <dc:description/>
  <dc:language>en-US</dc:language>
  <cp:lastModifiedBy> </cp:lastModifiedBy>
  <dcterms:modified xsi:type="dcterms:W3CDTF">2007-09-28T01:07:52Z</dcterms:modified>
  <cp:revision>3</cp:revision>
  <dc:subject/>
  <dc:title>Diapositiva 1</dc:title>
</cp:coreProperties>
</file>